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939-C11C-45B5-A609-57E7080B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A13-3BA6-4842-9BF4-416ECD5E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7D0F5-B63A-4792-9E79-B28C8A7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9114-B394-4576-9487-53BFAB0D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389E3-B369-464C-B8DC-44014057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7376B-2293-455C-8FC0-D1482DF2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94004-7F43-4D2E-BDF0-0ACBA8F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65955-AD7E-409E-A3B2-B5CCB70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46669-38B9-4F40-B631-35F09407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CDDB9-93BA-43CA-93B8-D84C2407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FF99B-838E-415A-901E-C1F76FE2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495B6-AE80-4DF0-A43B-329ACBE8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0E6-ECAD-4CCC-A296-93EA5666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2CD79-022E-43FD-BC39-9C797C9F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771FF-CA8F-474B-89D5-EA3B865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29B2A-2C1E-43DD-AED3-2A67A783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3A3A6-8946-4F69-A488-B7E0A11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B7ED7-705A-42B1-A7FD-16046F60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05C36-8E36-4B0E-B401-42F7D1D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EF079-A1A6-4F3D-9D31-E95C21EB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C8449-E210-4EE0-B7DF-41D9E192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E998D-0581-4330-8CC6-52C662DE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B0FC3-FEBC-435A-811F-727208C6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073-2F99-435E-B5AF-3D50D17B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B475A-A2B0-4129-B3A8-D7B793F2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D814C-31FE-486B-8124-50838D6C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F54AB-BDA4-4FDB-BE2C-4B82F5BD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E47EF-2EFC-48A1-BBD3-3F066C00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BC1E5-A965-447C-BA15-8372A115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039D9-214A-4427-B7DD-A33DD577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D4CA1-EC36-46A9-98B3-0BC015B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3B767-5B12-49CE-BAE8-F5BC40C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3B61E-7F09-4BE8-B27C-C1FAB25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9F0F1-7C55-48D8-BD34-E02751EE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A0E7-A8C3-45AF-A7F4-5CD1AB39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02EA4-C253-419C-99E9-305E4AB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E93FA-915E-4A1C-8779-F742D2A6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9E63C-9770-437D-A2B0-A17E8CB0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BCBD5-79B4-45CE-973F-101D713F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5F96-8D9B-4A79-ABBE-EE25FA8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E4AC5-8498-4586-9841-F05065C8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B5439-9266-4FB0-8079-BC5C9CE4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6225A-C08D-47D6-A48E-6E330501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55E67-7F5E-4571-B83E-22E233EF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47058-BDB6-4BC7-8B31-5526E387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598-6038-43B9-871D-4BCA93F9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E2D9D-3601-4715-AD65-D1C949E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11CEE-0963-4B0E-B544-775073C3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9DA8F-E34C-484F-8D03-2E958672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442CE-41F1-4E9F-830F-1EB405FD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B0BDD-A166-482D-98BB-848D3385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B02DC-0840-4C09-AA6C-E6B21A36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6F1E4-CF47-4FD7-B62C-63CBADFC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83388-7012-4DF0-9B7D-F7C4301E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E4BC1-29EB-49E0-9F2C-4C52E0A0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33684-6432-452C-9698-9504FFDC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BD1A-0261-42D7-A88C-F8E083E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F0674-1FC4-4262-9D0F-9CB3986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D85A1-B924-4FDD-8475-555D3D69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E4621-2271-48C3-A454-27BB112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79E91-58B9-4F62-80D1-D46335E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DB3FB-8D33-4EE6-BD09-D8FD97A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EE3B2-E5DE-4613-B808-F174E2C0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324D0-3FF5-4B72-B35F-76390DE7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6F85F-E7D7-4550-97DE-0EC3F984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2257E-F28B-41B7-83C0-E49E465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63046-42D6-44F6-B860-5569921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24D6-9C46-4210-84C3-8B37DAA3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2DC0B-0B3E-4C60-ABA1-9A613E2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1501E-6783-45ED-8FAA-0CC5D822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7F041-20BE-48F2-AC81-731574F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14406-D3EF-481D-9AB4-6C63CC1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F4664-D1A8-4B5A-AD99-A97A690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3BA6A-7ADA-44A3-A6A8-BC07D55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3A37F-1498-4F82-8AAA-1B640312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5E0DA-5C53-41A7-90DC-5FCA4BDF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A3E9B-A971-4B1C-A281-3F3E27C6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76B44-7F3F-48F3-AECA-015B333A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2487-3EA7-4CB5-86CD-0CD046B1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FEC36-DBEA-4520-9B8E-DE54EDE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09CB7-C630-44FD-9360-1768937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BB1AB-DBEA-406A-AF02-7AB3D3C8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32C67-E6BB-48D1-A26E-F39B789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7C281-B241-437C-B539-E12B604D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D7E09-265E-4C11-A0BD-466A915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80522-0BFA-4542-8300-1CC0E87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9B6D3-24A4-46C0-8CFE-5545249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93577-284F-48EA-B1B5-920AF947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511C8-2816-4947-8D70-5B9E0E4F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9E48-743F-4FB5-8877-BCED5F5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2886E-A459-4E4D-B0F0-E72B63E1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B11FD-6F49-4BF3-A8BF-7CCA4345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07787-CE72-4F1E-B93E-E0983431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A9EFE-1547-4F57-973E-3BC59D36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1086C-5941-4358-A08F-8800A529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450A1-D388-4AFF-B159-3B58B2DC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66EA1-44DF-412B-951C-D1815A0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54199-78CA-438D-B896-7789B19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68834-B2AB-4818-BB4A-4D3945CB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F1689-9742-4EA8-AC25-4DB675DE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7C55-FEFA-4DEB-A723-A952A24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250DB-3599-4E83-B7E7-B2DF8F37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A290D-D31D-4B76-AB36-C6999C6B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DD275-000D-4274-A32F-F62665D7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6A2E7-2AD9-460F-81F0-DD66B73C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4979B-AFA2-4969-A2D4-2F73C215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EB61D-4CA5-4651-840D-E6BC761D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49254-0341-44B9-B91D-729E187D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BB1D7-6B7B-446F-B4CA-0B1EEBD4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B5796-2596-4B53-820D-A1BF172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BF525-ED9B-4E79-8DDA-7E36195B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FE4-0696-4D64-98CF-9A1FB85D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B700-EF0C-44A7-AFEF-BC58BA4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02F29-468B-4872-BFA6-189BA41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711A7-4CD0-489A-9F42-7B384B5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F2BC3-AA4F-42A6-9836-C9EA5182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603EA-7B2A-485F-9402-D11504C9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E2E87-2F59-41A8-B526-78A56A7B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62290-FF8E-44FE-8761-EEAE7C74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2A2F9-6D9B-4580-85D5-2D52FB8D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DE25F-95F6-40E2-A123-390895C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213A1-AB9E-49FB-BB23-15AD3812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CB582-5149-4FAD-8BA4-4781952C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388A-1056-407A-8DB9-8CB2B5D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02E35-6C59-4E62-B7C2-C7301485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58435-4F9C-471C-AD0C-28E64E5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E46BF-8247-45F3-8D06-3C1D5E3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B999E-C099-4C6B-8501-D2786506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9E00E-4DCA-48D8-9D09-DA18482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36497-F6A4-4D2A-8B25-5F2AFAF9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D7665-4194-4BE4-BF08-E4742DD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39243-A8ED-4B0F-8289-770B321D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DFAF7-0BB4-4EBB-8118-71B6E0BE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26FCD-5A65-4A35-BC2F-DDF3D6A9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D469-A194-4A16-8BC6-1850248C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4C779-6C6C-472C-B3D0-723F3DB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54F38-A716-4764-AFA3-BB9B4BC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1B93A-D355-42C2-9882-596004EF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9F4D0-850C-43AE-9CFC-653923C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6DD18-554E-4BF3-9825-A8CA5C4C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2164E4-A860-487E-8083-1CF5B896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41C0B-D7AE-471E-9D8A-4959D943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761BD-3166-4B35-BBCC-FF4D0D02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6FEF2-D1B7-4C1E-B893-7A1B16A6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8DF6D-7060-441E-8684-28A64DA6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B021-328E-4039-AD75-70B89439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5E73E4-F0F8-4A82-9F0B-35200BD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29C72D-C967-4814-BDFA-2C724414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1470F-B2C0-442C-9D2B-7CFDD674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13462-CC5E-4249-ABD2-42E7F008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DC466-A0D3-4232-A900-0534FCB5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4F88F-AB99-442D-80B2-166AA3D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8F718-29DF-4D63-A0ED-547A67D4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A8686-5345-4DCE-BF4D-E903BA3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E3A22-075B-4D34-8C39-4A72DE6E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918350-3DDD-46B0-8C93-7EAA8575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DB11-2645-492E-8B05-6BC4064B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822F5-D3A1-4C76-B05A-6099468F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611DF-5752-4426-835C-DC8E5933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E68CC9-72A2-4FCA-9E97-70495B27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6655F-3819-4597-BF9F-63800329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39A6E-9423-4F8C-A8B0-39303F77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6C8485-7823-4B89-B14C-EA92222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F4493-D970-4286-8D4D-EEEADC1B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DCEA8-F3DD-4633-A98E-A6386B2D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57430-80BE-4A9E-B778-1CAFC07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792ED-8397-4913-AC10-3E83975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AF12-3A1B-4D26-9668-125CAA2D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3FDB4-65A4-4387-B496-65786A4D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79AD0-371C-47BF-B654-EFDB856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B9835-ABD3-48C9-82DB-85945482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0CE38-A370-48C4-9774-36ECBD5B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594B3E-4A86-4CD3-97D7-5BE7D73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3A316-40A6-4432-8562-C40AA237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2D841-5EAE-4D49-8A27-7984DDC8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81D625-9836-4418-BA96-C7B52BED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8386EB-178E-4CF2-AA61-E2B43165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83AEC1-FAA8-464E-A977-39FAD9D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86F3-3FBB-42C6-B999-13551ABC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9E0BEB-E7AA-4965-9534-1E60957F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FAF54-192D-41A6-8926-7AD3083E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9A2747-E8F7-4FAA-AB3D-73BE8384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D058C9-5446-492E-B637-B86CE622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3CEA7-FED4-44F5-B88A-5BC618CE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059019-2D6F-41AC-815E-C84F6B0B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0438F6-C7CC-4C58-8BAB-4C992E28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877253-3D44-4064-A002-CF3F2737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7579CA-9045-467C-A515-37B0B0DC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C1292-D9EF-439D-8198-B72187ED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3063-EC67-4AA8-840F-CA7E064B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502DF-8386-4842-8F32-DF823BB3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51FE9-D909-433C-8E0A-C8F88BE5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4B5653-D393-4ED9-9AD5-7DD5BA8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98BB96-ABD7-43EC-B49F-D9537270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9F2F3D-9E65-4D77-8904-D566655C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163A5F-DD38-41E5-A112-097EE07F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742C80-A2B7-4B34-BDC8-17AF3CBC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AF10DE-1052-4EC2-9DDB-EFBAD1A4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72ECAD-7BE1-4DDB-8401-887D4B53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D78E4-F51A-4E74-8678-EE872B01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F47C-1EB2-4CB7-B90E-9359BBF8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FF651C-90B0-4608-9181-E9D3E9D5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DA9995-1853-4946-9D45-5044F2C2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8A89A9-BC88-49F3-A846-8F4E0A11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0D9B0-35CC-44C2-BD83-3A939858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331481-E4C8-49AF-8808-DABC283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AEB651-5455-4B7F-8B07-291A974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2E6543-EDD3-4907-A997-25B1BCF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EC91A0-58B6-49A8-9E34-ACAB2317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AA7BE3-7C2B-442A-8DA7-8AB328CF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25EE36-EDAD-4CE9-A5EE-729CAFC6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92D5-3767-456E-8C5E-4FBF6AA8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82BF56-C09C-40A1-9F5A-070E3386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AE7756-784F-4F6C-98CE-B94CED4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DE829A-1678-46E5-AECE-B81B633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A0DED-43E2-490B-852A-1BE007E3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40E3F3-6696-4043-93CD-162BD5E5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9DA302-5B0F-401A-85E4-39D4C51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28AC1B-07B5-4801-AA32-E493C9B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3052F-7146-416C-AE8A-DD97BFDF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21C381-5418-438F-AB9A-87EA82E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1AEA83-0579-456E-B770-A5B7A852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D5E-9174-4E69-AECF-B3191058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E8D7-AEF9-49A7-B5CE-DEE0FF53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B4D6A6-CC13-4DF1-9EDD-EF0DE57C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945164-E588-412B-9FB4-2649EC61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C01849-5507-4533-BE39-043F607A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805535-E5CC-4621-A14D-630A04F8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C491BB-D964-499F-A35E-C06112BD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C66E31-5A68-4E4A-ABD2-66537520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F523E1-213F-43B8-A69F-AB4451D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8AFCD0-1D44-420A-AE9B-6B96FD0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B939D4-EC2B-4689-88CB-6758BABE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616D34-3C83-4190-AE86-241FE422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FFC3-F525-4969-98E3-C28E160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2EAE51-D574-40DC-976F-4E9227A5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5A338E-AF4E-46D1-B951-227C4777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A05D10-A5A3-486D-ADE2-CE6E827E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055A2A-CA92-4F19-B4C7-14ADE105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0C6ED0-12AF-4D2D-8BDB-DA08D493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AAB2C3-62B6-45F5-8C52-95DDEA12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FAB631-8A79-4A71-B014-F3775DCD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D8C2FB-5599-425C-B7FB-624FF05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277A2A-A8A9-401F-8914-D1767176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5CE803-297D-492D-AFD9-EFC0EFFB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54C5-E18B-4183-9C34-AA042547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D86CFE-0277-4893-82B6-CA300C7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33122D-95C6-4B98-A6F9-978E0ED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E85FA5-F43F-4FF6-9B6E-640E90C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9BB36-856B-41BA-84AB-213EBBFA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FCDB5C-B20C-4781-B074-E4808453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A1D62C-F3D8-49BE-B5BE-9CE55267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720E96-157D-4993-A4C6-73F81CF7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37CA47-F402-4E60-8E4C-18EDE8D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ED9F64-40F5-4D4F-A08B-D9543BD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585854-9D02-41F3-85F2-4F78A03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9E2A-E11F-4E10-BC63-742B371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BCD0EC-47DC-4CFB-B175-DFAF314A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54F366-D194-4413-9481-990A1AB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81B0E3-9E9A-4CFC-AC0A-0815E48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CC7249-2670-4759-89BC-248E2F5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5CFFDD-D424-429B-9A19-4AC0259F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D96AF5-5A71-4506-A7C4-5D42AF47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4C885-A23E-4580-9E8E-17333BB5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A4B6A7-0AD8-4B52-8E1A-082BECEA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EC4B41-6415-4AA8-A9C2-DB49C2C7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72A114-18BD-435F-AEF0-4794FBD7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2E38-CD58-45B4-A010-BA7B1772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D4C1F0-1E62-4C75-8BFC-28BED5B1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C58189-BAC1-421B-810A-93EA1342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6558A4-1A76-4859-A2FE-859833DB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597C98-0B38-4E84-84CD-16730F9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7EBDE8-60F5-40A4-9E90-19D90339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2F4583-A2A0-42D9-9D39-C06F5DD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DBA955-39BA-4EC5-8F88-ACF7BCA2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6D5D94-4F65-4CDC-BCFD-0F9B628E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7CE772-6119-462E-8D5B-BFE01489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DC8921-4E67-456E-9083-FC44589B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0C89-F41F-4278-8689-9F34EDED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BC13E6-D6EB-4E49-A37F-FD2B531D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569B65-83A4-4243-B329-0B8D1D59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792F0C-5C8F-477E-A222-CB8F22D9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ED874F-6DC0-458B-9D49-36DADF56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8FC6CE-E8BC-47F2-B846-8BB4CACF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05C115-1331-494E-89FE-D764BFC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594D47-C336-40CF-8704-E98988C6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1548DD-5388-4F4E-AFA4-4BF2C26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03D038-B760-43BC-9094-9868F10B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339D3D-08F4-47A9-B5E2-6C272316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C5140-04E4-4F1D-9E21-509E9CA5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CCAAEE-BAE1-4B0F-99D9-849CB1CE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FE8B92-8889-4495-BE10-F6E33735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6A12CC-A875-4EC0-BDC4-02175F1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CD2883-9A23-49C2-BFDA-9EC0AC2B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054586-56CB-4020-8206-D144FD3B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9B207C-0883-4854-BB71-1E251551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57D8DD-9235-4825-AF56-142513FD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E6DDE4-70C5-43ED-99D4-9281261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CE8CC0-EEAC-4F25-94EA-56B4D9C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512B60-00C5-41CC-944B-D80CE57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2DDEB-D2D7-4890-ADD5-94E78865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9734D6-4036-4F05-84E0-31D5CED7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38B123-D972-4FFE-8F63-3A97B8A2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F05444-312D-4000-AB6D-357C61F0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0FED-FC53-45B0-8412-4FEDC2E7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ADB7-EA3B-4FBC-961F-AAF71D9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AFB-305F-45F5-BE31-5E42B3D1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300E-5FD3-4445-824B-07EE8AD0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9668-E815-4A7F-9379-00D8F43B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3529-0917-4C77-B115-DF1474EA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AEE1-28EC-4821-BB1B-E613133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E066-AFE2-48A9-9F22-76962181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AB25-B63E-4ED2-A3DA-F287710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61CF0-62A4-4003-A772-F1DC182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FDAD-728F-4665-BFDC-330D9802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8399-DB87-4DE0-9B3E-9EE79A03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C2F7-E25E-4E8B-988E-E7F113EF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24F-84C7-41F1-B6B6-19ACE89C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0B8B6-4F35-4ADF-8C03-6496F1FD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46838-67F8-4FCD-85EC-97AA422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65FD-7070-4989-A9C2-123BD035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6547-D146-4FAD-9A41-D32698C2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38743-1833-4C10-8FC9-EEFAD1E2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1E14-BE5B-4B87-A373-EA2ABAEC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9995-D7AE-46E8-9456-49009648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FCDE-FC0E-400A-B601-55605A3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B9BA2-4AA7-43A9-BEB2-E6BD7B4B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132A-DB4D-4856-87D7-F2AD0A62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7F1-5062-4DB8-BD23-91B6494D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BBA72-16B1-40A0-93CD-C7E538A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F2CF-3E9F-484B-A9C7-43CCF64F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A4ADF-9AF8-42B3-9544-F9EC87DB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768D-6EC5-4858-BBBC-57128B16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2973C-81CA-4955-93A2-5ED45540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F59A-08AE-47D3-8B71-808CD8A8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F6F48-D9B3-4F00-A44D-21AB8EF5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4CFB-4A3E-478F-8D2D-CF6CFCC1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86F23-C616-4F03-B558-74AEA4B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C8DCA-1E4F-499E-BC55-FEBA12C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60D-47EF-4414-92C8-CF2C834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B49D-EADB-4497-B827-FAC52D7A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F3196-5F30-4C21-ADED-911C8EA2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16D04-25C0-467F-A844-18FD3BE3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0BE42-BE87-4EDE-8E49-369A01D9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24FEC-1BCF-4504-BA7E-7C85DE5E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4F8E-9338-4073-A051-B319E7B5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3107-3635-4820-A63A-6873D51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007C7-5E14-40F2-99E1-711A4941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CD9C-C5C1-4F83-8019-70F02E5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3221-1DE2-40F9-BAF6-F6EB41A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98E-E7F7-427C-8E8D-8600678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3059-8C1E-4A38-B523-8595D8E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2CFB-78D3-4B54-A122-76CBA6C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7B7A4-A3A8-41FC-84D1-9287632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8D742-647D-4AE4-94E1-0813BB0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DDC8-40D1-4679-A6B7-DB38366F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D03B-8435-4098-B21C-9EB9ADD3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139F-A986-487F-83D9-C546B438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EDB4F-97B0-476F-A722-DD72EA6E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D23B-21D8-4B4F-BABE-6D73A959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9620D-4026-4CA5-BF47-24160CEB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E5E-8F7E-4A70-BA65-877930FF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DAFF8-01CD-4D1B-8A07-053FD8B5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0BC0-9C15-4644-A354-114808E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039A5-586E-49D7-8446-31B7D48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403F9-92C7-4B3D-B245-1F5736D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10442-CB9C-49B5-A78B-205CE2F7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EE37-9CFD-4FF8-8B52-5D2EA0A7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F28A3-4A5E-472B-8942-C04458AD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F8994-A838-4FF4-B3AD-BF708B7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C1656-B193-42DC-9D9E-01CBDE92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76106-9E2B-4DD4-A63B-318844EA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F2A3-4221-477D-9D73-195F20DDC3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D39-4830-479E-8046-902CEA9A86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E481-B749-42C9-B63B-527EDAD94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3262-33C8-4489-98C0-89D032709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18C9-4810-4B80-930A-693453B95C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010F-82C2-44C4-881E-14BB86708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453-D511-48FA-8541-780108F85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9B3-E493-4049-A85C-3E1410F86C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8F5B-0D39-437F-97FF-A97BA2FA9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CC62-639A-4A5C-89AB-329A14B735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5A81-B4B6-47BA-ACA6-D1C7659DB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5A7B-1DEB-4D8C-A864-D1AC03A7C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E1C5-B009-46BF-BF69-7DF6921EC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D10A-FD60-490D-93AD-C70735D47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82E-F2BF-4961-800B-3718C64C9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2A26-2BB0-4688-8A40-72AAF4F2C6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CB63-5389-4392-8E2D-3AB73454A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1341-9FC5-48D0-B955-EAD574C063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2EB-B840-42E8-A7E8-2B3C3EDBA5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4737-7ACE-43BE-B121-604AE5DF7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26B-327C-4DB5-9A8C-53D911E00C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880-CA2F-406D-B4E6-CAA8B0A3F2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0519-93B5-467A-964B-E312CD5FD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F85-729B-4328-ACFF-8A6DEAECB3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BC9F-F209-408B-AF45-91DB76F0E4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336-2E2C-4B58-890B-72DA8A5A6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A148-1C57-423F-A15F-6CBB2F779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E22B-5637-4112-B61C-1AB412985C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D8AA-F770-4C3D-91F6-ED0CD0A2C2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9DB-018E-4552-9E06-B027B9561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A08-FB30-40C3-9C36-A344756FE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4671-D0DB-4AD0-9FAC-0E3BBCCA1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043-843D-406B-97B1-98318DFE6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3804-ACC6-411B-9FB1-608036D68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8C89-29E1-40E4-89D2-CD687EB52F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5481-AB63-45F2-B7BE-2D216DF16B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4FAB-CEE9-407D-B379-F33BE24E4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EFBF-5AF7-46C9-ACB3-113DCB37A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B60-14C3-48C5-A389-A7CA409A2C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12F-AFAB-4C58-845C-3CAEDE9102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4A0C-01A6-4278-AAC5-E40A1B3FB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960B-A220-4225-ACA0-D4CD155CDB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F8A-1A39-4DD5-9174-5D775F776A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2D0D-1B7A-44A2-84A4-100095448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CD21-A638-4C9B-A9BF-B85F90281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797-D3A0-4E7B-B97E-6E5237A86D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BC8-B2BC-442D-A811-2032FA9E1C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721-3210-4781-B3C2-0D680E871D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119B-B220-4097-A39E-6B3AB914DA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B945-AFC9-49C9-B458-F8F9C6A8F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3576600" y="2011320"/>
            <a:ext cx="1800360" cy="6285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704880" y="3100320"/>
            <a:ext cx="77342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79873" descr=""/>
          <p:cNvPicPr/>
          <p:nvPr/>
        </p:nvPicPr>
        <p:blipFill>
          <a:blip r:embed="rId1"/>
          <a:stretch/>
        </p:blipFill>
        <p:spPr>
          <a:xfrm>
            <a:off x="528480" y="735120"/>
            <a:ext cx="79822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78849" descr=""/>
          <p:cNvPicPr/>
          <p:nvPr/>
        </p:nvPicPr>
        <p:blipFill>
          <a:blip r:embed="rId1"/>
          <a:stretch/>
        </p:blipFill>
        <p:spPr>
          <a:xfrm>
            <a:off x="766800" y="1371600"/>
            <a:ext cx="7610400" cy="41148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78850"/>
          <p:cNvSpPr/>
          <p:nvPr/>
        </p:nvSpPr>
        <p:spPr>
          <a:xfrm>
            <a:off x="2979720" y="2716200"/>
            <a:ext cx="7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77825" descr=""/>
          <p:cNvPicPr/>
          <p:nvPr/>
        </p:nvPicPr>
        <p:blipFill>
          <a:blip r:embed="rId1"/>
          <a:stretch/>
        </p:blipFill>
        <p:spPr>
          <a:xfrm>
            <a:off x="723960" y="1790640"/>
            <a:ext cx="7696080" cy="3276720"/>
          </a:xfrm>
          <a:prstGeom prst="rect">
            <a:avLst/>
          </a:prstGeom>
          <a:ln w="0">
            <a:noFill/>
          </a:ln>
        </p:spPr>
      </p:pic>
      <p:sp>
        <p:nvSpPr>
          <p:cNvPr id="1466" name="矩形 77826"/>
          <p:cNvSpPr/>
          <p:nvPr/>
        </p:nvSpPr>
        <p:spPr>
          <a:xfrm>
            <a:off x="3579840" y="220500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77827"/>
          <p:cNvSpPr/>
          <p:nvPr/>
        </p:nvSpPr>
        <p:spPr>
          <a:xfrm>
            <a:off x="6170760" y="2651040"/>
            <a:ext cx="18572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77828"/>
          <p:cNvSpPr/>
          <p:nvPr/>
        </p:nvSpPr>
        <p:spPr>
          <a:xfrm>
            <a:off x="6388200" y="4087800"/>
            <a:ext cx="1928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77829"/>
          <p:cNvSpPr/>
          <p:nvPr/>
        </p:nvSpPr>
        <p:spPr>
          <a:xfrm>
            <a:off x="1262160" y="4556160"/>
            <a:ext cx="3670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76801" descr=""/>
          <p:cNvPicPr/>
          <p:nvPr/>
        </p:nvPicPr>
        <p:blipFill>
          <a:blip r:embed="rId1"/>
          <a:stretch/>
        </p:blipFill>
        <p:spPr>
          <a:xfrm>
            <a:off x="552600" y="1314360"/>
            <a:ext cx="8038800" cy="4229280"/>
          </a:xfrm>
          <a:prstGeom prst="rect">
            <a:avLst/>
          </a:prstGeom>
          <a:ln w="0">
            <a:noFill/>
          </a:ln>
        </p:spPr>
      </p:pic>
      <p:sp>
        <p:nvSpPr>
          <p:cNvPr id="1471" name="矩形 76802"/>
          <p:cNvSpPr/>
          <p:nvPr/>
        </p:nvSpPr>
        <p:spPr>
          <a:xfrm>
            <a:off x="3262320" y="360828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76803"/>
          <p:cNvSpPr/>
          <p:nvPr/>
        </p:nvSpPr>
        <p:spPr>
          <a:xfrm>
            <a:off x="2793960" y="456552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76804"/>
          <p:cNvSpPr/>
          <p:nvPr/>
        </p:nvSpPr>
        <p:spPr>
          <a:xfrm>
            <a:off x="3936960" y="5022720"/>
            <a:ext cx="1571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89089" descr=""/>
          <p:cNvPicPr/>
          <p:nvPr/>
        </p:nvPicPr>
        <p:blipFill>
          <a:blip r:embed="rId1"/>
          <a:stretch/>
        </p:blipFill>
        <p:spPr>
          <a:xfrm>
            <a:off x="561960" y="1085760"/>
            <a:ext cx="8020080" cy="4686480"/>
          </a:xfrm>
          <a:prstGeom prst="rect">
            <a:avLst/>
          </a:prstGeom>
          <a:ln w="0">
            <a:noFill/>
          </a:ln>
        </p:spPr>
      </p:pic>
      <p:pic>
        <p:nvPicPr>
          <p:cNvPr id="1475" name="图片 89090" descr=""/>
          <p:cNvPicPr/>
          <p:nvPr/>
        </p:nvPicPr>
        <p:blipFill>
          <a:blip r:embed="rId2"/>
          <a:stretch/>
        </p:blipFill>
        <p:spPr>
          <a:xfrm>
            <a:off x="969840" y="5753160"/>
            <a:ext cx="1600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0114" descr=""/>
          <p:cNvPicPr/>
          <p:nvPr/>
        </p:nvPicPr>
        <p:blipFill>
          <a:blip r:embed="rId1"/>
          <a:stretch/>
        </p:blipFill>
        <p:spPr>
          <a:xfrm>
            <a:off x="809640" y="838080"/>
            <a:ext cx="7524720" cy="51818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0115"/>
          <p:cNvSpPr/>
          <p:nvPr/>
        </p:nvSpPr>
        <p:spPr>
          <a:xfrm>
            <a:off x="5778360" y="4121280"/>
            <a:ext cx="7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00353" descr=""/>
          <p:cNvPicPr/>
          <p:nvPr/>
        </p:nvPicPr>
        <p:blipFill>
          <a:blip r:embed="rId1"/>
          <a:stretch/>
        </p:blipFill>
        <p:spPr>
          <a:xfrm>
            <a:off x="766800" y="1062000"/>
            <a:ext cx="7610400" cy="473400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00354"/>
          <p:cNvSpPr/>
          <p:nvPr/>
        </p:nvSpPr>
        <p:spPr>
          <a:xfrm>
            <a:off x="3906720" y="149688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0355"/>
          <p:cNvSpPr/>
          <p:nvPr/>
        </p:nvSpPr>
        <p:spPr>
          <a:xfrm>
            <a:off x="5398920" y="342252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00356"/>
          <p:cNvSpPr/>
          <p:nvPr/>
        </p:nvSpPr>
        <p:spPr>
          <a:xfrm>
            <a:off x="1916280" y="4849920"/>
            <a:ext cx="7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00357"/>
          <p:cNvSpPr/>
          <p:nvPr/>
        </p:nvSpPr>
        <p:spPr>
          <a:xfrm>
            <a:off x="6802560" y="4849920"/>
            <a:ext cx="1225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99329" descr=""/>
          <p:cNvPicPr/>
          <p:nvPr/>
        </p:nvPicPr>
        <p:blipFill>
          <a:blip r:embed="rId1"/>
          <a:stretch/>
        </p:blipFill>
        <p:spPr>
          <a:xfrm>
            <a:off x="547560" y="1547640"/>
            <a:ext cx="80488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8305" descr=""/>
          <p:cNvPicPr/>
          <p:nvPr/>
        </p:nvPicPr>
        <p:blipFill>
          <a:blip r:embed="rId1"/>
          <a:stretch/>
        </p:blipFill>
        <p:spPr>
          <a:xfrm>
            <a:off x="771480" y="1324080"/>
            <a:ext cx="7601040" cy="4209840"/>
          </a:xfrm>
          <a:prstGeom prst="rect">
            <a:avLst/>
          </a:prstGeom>
          <a:ln w="0">
            <a:noFill/>
          </a:ln>
        </p:spPr>
      </p:pic>
      <p:sp>
        <p:nvSpPr>
          <p:cNvPr id="1485" name="矩形 98306"/>
          <p:cNvSpPr/>
          <p:nvPr/>
        </p:nvSpPr>
        <p:spPr>
          <a:xfrm>
            <a:off x="5800680" y="4533840"/>
            <a:ext cx="2587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8308"/>
          <p:cNvSpPr/>
          <p:nvPr/>
        </p:nvSpPr>
        <p:spPr>
          <a:xfrm>
            <a:off x="1370160" y="5013360"/>
            <a:ext cx="11858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97281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1488" name="矩形 97282"/>
          <p:cNvSpPr/>
          <p:nvPr/>
        </p:nvSpPr>
        <p:spPr>
          <a:xfrm>
            <a:off x="4299120" y="243360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7283"/>
          <p:cNvSpPr/>
          <p:nvPr/>
        </p:nvSpPr>
        <p:spPr>
          <a:xfrm>
            <a:off x="1577880" y="3402000"/>
            <a:ext cx="3065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97284"/>
          <p:cNvSpPr/>
          <p:nvPr/>
        </p:nvSpPr>
        <p:spPr>
          <a:xfrm>
            <a:off x="1490760" y="5329080"/>
            <a:ext cx="18572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86680" cy="319104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88066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7619760" cy="1886040"/>
          </a:xfrm>
          <a:prstGeom prst="rect">
            <a:avLst/>
          </a:prstGeom>
          <a:ln w="0">
            <a:noFill/>
          </a:ln>
        </p:spPr>
      </p:pic>
      <p:pic>
        <p:nvPicPr>
          <p:cNvPr id="1436" name="图片 88067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1924200" cy="1457280"/>
          </a:xfrm>
          <a:prstGeom prst="rect">
            <a:avLst/>
          </a:prstGeom>
          <a:ln w="0">
            <a:noFill/>
          </a:ln>
        </p:spPr>
      </p:pic>
      <p:sp>
        <p:nvSpPr>
          <p:cNvPr id="1437" name="矩形 88068"/>
          <p:cNvSpPr/>
          <p:nvPr/>
        </p:nvSpPr>
        <p:spPr>
          <a:xfrm>
            <a:off x="7596360" y="5013360"/>
            <a:ext cx="7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7042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619760" cy="3381120"/>
          </a:xfrm>
          <a:prstGeom prst="rect">
            <a:avLst/>
          </a:prstGeom>
          <a:ln w="0">
            <a:noFill/>
          </a:ln>
        </p:spPr>
      </p:pic>
      <p:pic>
        <p:nvPicPr>
          <p:cNvPr id="1439" name="图片 87043" descr=""/>
          <p:cNvPicPr/>
          <p:nvPr/>
        </p:nvPicPr>
        <p:blipFill>
          <a:blip r:embed="rId2"/>
          <a:stretch/>
        </p:blipFill>
        <p:spPr>
          <a:xfrm>
            <a:off x="1258920" y="4508640"/>
            <a:ext cx="3066840" cy="194292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7044"/>
          <p:cNvSpPr/>
          <p:nvPr/>
        </p:nvSpPr>
        <p:spPr>
          <a:xfrm>
            <a:off x="3241800" y="1932120"/>
            <a:ext cx="7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7045"/>
          <p:cNvSpPr/>
          <p:nvPr/>
        </p:nvSpPr>
        <p:spPr>
          <a:xfrm>
            <a:off x="6594480" y="389088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86017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3562200" cy="333396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86018" descr=""/>
          <p:cNvPicPr/>
          <p:nvPr/>
        </p:nvPicPr>
        <p:blipFill>
          <a:blip r:embed="rId2"/>
          <a:stretch/>
        </p:blipFill>
        <p:spPr>
          <a:xfrm>
            <a:off x="477720" y="3641760"/>
            <a:ext cx="7658280" cy="306864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6019"/>
          <p:cNvSpPr/>
          <p:nvPr/>
        </p:nvSpPr>
        <p:spPr>
          <a:xfrm>
            <a:off x="6049800" y="4468680"/>
            <a:ext cx="1762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6020"/>
          <p:cNvSpPr/>
          <p:nvPr/>
        </p:nvSpPr>
        <p:spPr>
          <a:xfrm>
            <a:off x="6288120" y="5775480"/>
            <a:ext cx="8762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4993" descr=""/>
          <p:cNvPicPr/>
          <p:nvPr/>
        </p:nvPicPr>
        <p:blipFill>
          <a:blip r:embed="rId1"/>
          <a:stretch/>
        </p:blipFill>
        <p:spPr>
          <a:xfrm>
            <a:off x="528480" y="1281240"/>
            <a:ext cx="8087040" cy="429552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4994"/>
          <p:cNvSpPr/>
          <p:nvPr/>
        </p:nvSpPr>
        <p:spPr>
          <a:xfrm>
            <a:off x="8101080" y="2781360"/>
            <a:ext cx="503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4995"/>
          <p:cNvSpPr/>
          <p:nvPr/>
        </p:nvSpPr>
        <p:spPr>
          <a:xfrm>
            <a:off x="1500120" y="3238560"/>
            <a:ext cx="1631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4996"/>
          <p:cNvSpPr/>
          <p:nvPr/>
        </p:nvSpPr>
        <p:spPr>
          <a:xfrm>
            <a:off x="3089160" y="4195800"/>
            <a:ext cx="835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83969" descr=""/>
          <p:cNvPicPr/>
          <p:nvPr/>
        </p:nvPicPr>
        <p:blipFill>
          <a:blip r:embed="rId1"/>
          <a:stretch/>
        </p:blipFill>
        <p:spPr>
          <a:xfrm>
            <a:off x="704880" y="985680"/>
            <a:ext cx="7734240" cy="4886640"/>
          </a:xfrm>
          <a:prstGeom prst="rect">
            <a:avLst/>
          </a:prstGeom>
          <a:ln w="0">
            <a:noFill/>
          </a:ln>
        </p:spPr>
      </p:pic>
      <p:sp>
        <p:nvSpPr>
          <p:cNvPr id="1451" name="矩形 83970"/>
          <p:cNvSpPr/>
          <p:nvPr/>
        </p:nvSpPr>
        <p:spPr>
          <a:xfrm>
            <a:off x="6561000" y="5384880"/>
            <a:ext cx="1035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82945" descr=""/>
          <p:cNvPicPr/>
          <p:nvPr/>
        </p:nvPicPr>
        <p:blipFill>
          <a:blip r:embed="rId1"/>
          <a:stretch/>
        </p:blipFill>
        <p:spPr>
          <a:xfrm>
            <a:off x="752400" y="2057400"/>
            <a:ext cx="7639200" cy="27432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82946"/>
          <p:cNvSpPr/>
          <p:nvPr/>
        </p:nvSpPr>
        <p:spPr>
          <a:xfrm>
            <a:off x="1468440" y="340344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82947"/>
          <p:cNvSpPr/>
          <p:nvPr/>
        </p:nvSpPr>
        <p:spPr>
          <a:xfrm>
            <a:off x="7183440" y="3860640"/>
            <a:ext cx="8445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81921" descr=""/>
          <p:cNvPicPr/>
          <p:nvPr/>
        </p:nvPicPr>
        <p:blipFill>
          <a:blip r:embed="rId1"/>
          <a:stretch/>
        </p:blipFill>
        <p:spPr>
          <a:xfrm>
            <a:off x="542880" y="1042920"/>
            <a:ext cx="8058240" cy="4772160"/>
          </a:xfrm>
          <a:prstGeom prst="rect">
            <a:avLst/>
          </a:prstGeom>
          <a:ln w="0">
            <a:noFill/>
          </a:ln>
        </p:spPr>
      </p:pic>
      <p:sp>
        <p:nvSpPr>
          <p:cNvPr id="1456" name="矩形 81922"/>
          <p:cNvSpPr/>
          <p:nvPr/>
        </p:nvSpPr>
        <p:spPr>
          <a:xfrm>
            <a:off x="2066760" y="395748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80897" descr=""/>
          <p:cNvPicPr/>
          <p:nvPr/>
        </p:nvPicPr>
        <p:blipFill>
          <a:blip r:embed="rId1"/>
          <a:stretch/>
        </p:blipFill>
        <p:spPr>
          <a:xfrm>
            <a:off x="592200" y="1577880"/>
            <a:ext cx="7601040" cy="2333880"/>
          </a:xfrm>
          <a:prstGeom prst="rect">
            <a:avLst/>
          </a:prstGeom>
          <a:ln w="0">
            <a:noFill/>
          </a:ln>
        </p:spPr>
      </p:pic>
      <p:pic>
        <p:nvPicPr>
          <p:cNvPr id="1458" name="图片 80898" descr=""/>
          <p:cNvPicPr/>
          <p:nvPr/>
        </p:nvPicPr>
        <p:blipFill>
          <a:blip r:embed="rId2"/>
          <a:stretch/>
        </p:blipFill>
        <p:spPr>
          <a:xfrm>
            <a:off x="560520" y="4005360"/>
            <a:ext cx="7562880" cy="11998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80899"/>
          <p:cNvSpPr/>
          <p:nvPr/>
        </p:nvSpPr>
        <p:spPr>
          <a:xfrm>
            <a:off x="5114880" y="2935440"/>
            <a:ext cx="2986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80900"/>
          <p:cNvSpPr/>
          <p:nvPr/>
        </p:nvSpPr>
        <p:spPr>
          <a:xfrm>
            <a:off x="1042920" y="3414600"/>
            <a:ext cx="4753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80901"/>
          <p:cNvSpPr/>
          <p:nvPr/>
        </p:nvSpPr>
        <p:spPr>
          <a:xfrm>
            <a:off x="4643280" y="4005360"/>
            <a:ext cx="302436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4:45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